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1E5-327E-4C67-A354-080F629D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D68-4D4E-4FBB-8667-8A1028E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07D-D687-4B32-8917-6AAD4508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782-BD90-492D-A720-92ECDD0B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44A-923F-435A-BD91-BA56380B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ABE-FA27-4560-A96A-F94A40BC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6F1-4210-4DD2-BC56-6CF96F18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8C1-9CC1-4679-8868-5D44AEC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F976-D148-4136-A22C-5C763A84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B662-87CC-461C-B6DA-77BB641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D0FB-DF0C-4A58-AAE2-B658922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324-ADC9-452A-8A61-CC78BF52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029-A847-4627-BD39-A1C3B06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49E-4A47-480E-87B0-8F970BDC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D36-41E8-42AF-B890-09A0E5F8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C4FA-4A4D-4410-A030-2DE8850F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8F5-3949-4EE5-9413-2971CAF7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31883-43DE-4CA7-B5BC-4BE7E319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66185-97A2-4461-B8DE-E1DEC43F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02061-75ED-4363-800D-B2786E7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39126-C9DF-4E2F-99C3-D15B0EF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2300F-62BD-44D8-AE8A-905A5C56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C86-F9CB-4609-B98F-982B4932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0CBB4-0697-414C-B4F1-7E79AF45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E4865-A7DC-4069-B6BC-581005C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AA88C-7CB3-4255-8A68-AC2BCC73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E440C-E4BA-4055-BC1A-74C25DE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902F2-E2C9-4D1F-97CA-4AFC9103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E15CB-5B0A-4B11-BF5E-3FEDFD7C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4BE76-E335-4C1E-B40C-92DD8542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BB8D-2091-4BB9-A6D9-DD3A3012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C3BF-DFE6-4C22-B69C-0001156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D4A0-40A0-4715-A6EE-D8AC932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21A-1BF7-490E-957B-9F5E97A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D6BC-E531-48A8-924F-A26EE4A7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7A97-BD9A-4202-B881-A442A91F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8277-9007-4830-ACE7-E96CACAD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711B-D0FC-48C9-866B-CE6C34A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D644-95C0-44BA-A1A6-3AA28C5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1DA8-D706-4ED8-953C-1A78AC7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EE56-98D2-4B94-BB6F-37A8E52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517C-A0A8-44DE-BAF6-68395F93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0B2C-7418-4140-AF68-7A5BA2C8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6F2-7AEE-4C4B-852C-033D887A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394-5754-4E35-AE86-B6350FED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364-50FC-4DB1-9B87-E322E567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5C6-9FC3-403D-8219-FE3A771E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6E5-33A6-406B-B158-8DADE30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EB96-A7EE-4B10-BE84-196BFB508A28}" type="slidenum"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03FA-1E7B-4732-B082-0375C0AD9B81}" type="slidenum">
              <a:rPr b="0" lang="en-CA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8D01-BAB3-455F-903A-60BF33A66487}" type="slidenum"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0E0E-F97C-45E9-B4CE-21F13076A021}" type="slidenum">
              <a:rPr b="0" lang="en-CA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Microsoft Word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24242"/>
                </a:solidFill>
                <a:latin typeface="Century Gothic"/>
              </a:rPr>
              <a:t>Equation Edito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What type of documents might require Equation Editor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Formula Shee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Tests &amp; Quizz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Workshee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Inserting formulas in financial tex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What can you do with Equation Editor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Use mathematical notation such a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Square roo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Exponents/logarith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Fract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Greek alphab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Sequence not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Bracke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e3d2d"/>
                </a:solidFill>
                <a:latin typeface="Century Gothic"/>
              </a:rPr>
              <a:t>Matri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94c600"/>
                </a:solidFill>
                <a:latin typeface="Century Gothic"/>
              </a:rPr>
              <a:t>How do you use Equation Editor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Open Microsoft Wo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Choose the insert ta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Click on the Pi symbol on the far right in the toolba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e3d2d"/>
                </a:solidFill>
                <a:latin typeface="Century Gothic"/>
              </a:rPr>
              <a:t>Choose the notation you would like to us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8:46:02Z</dcterms:created>
  <dc:creator>Owner</dc:creator>
  <dc:description/>
  <dc:language>en-US</dc:language>
  <cp:lastModifiedBy>Mike</cp:lastModifiedBy>
  <dcterms:modified xsi:type="dcterms:W3CDTF">2012-07-10T01:52:24Z</dcterms:modified>
  <cp:revision>3</cp:revision>
  <dc:subject/>
  <dc:title>Microsoft Word</dc:title>
</cp:coreProperties>
</file>